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</p:sldIdLst>
  <p:sldSz cx="10691813" cy="7559675"/>
  <p:notesSz cx="6858000" cy="97234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72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orld Health Organ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4"/>
          </p:nvPr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F36F6C-CF0F-437C-8922-31421B0560E0}" type="datetime3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851040" y="729720"/>
            <a:ext cx="5155920" cy="364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3240" rIns="93240" tIns="46440" bIns="4644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5"/>
          </p:nvPr>
        </p:nvSpPr>
        <p:spPr>
          <a:xfrm>
            <a:off x="-360" y="9234360"/>
            <a:ext cx="297324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6"/>
          </p:nvPr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86BFE3-C065-44A9-8FA1-E27B6AB2400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7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D632566C-C6BC-48E6-9705-A5431DBAAC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852480" y="728640"/>
            <a:ext cx="5156280" cy="364644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FB5C86D6-D749-4B3D-82B7-7E3E8BAF3308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16DFC69-6925-4481-A554-0696BBAF1B04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A57E2220-343B-4328-BE73-B503B687E22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EB0D6D8C-2D5C-44C0-B7A6-640E1EC35FC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Espace réservé de l'en-tête 3"/>
          <p:cNvSpPr/>
          <p:nvPr/>
        </p:nvSpPr>
        <p:spPr>
          <a:xfrm>
            <a:off x="0" y="0"/>
            <a:ext cx="297324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orld Health Organization</a:t>
            </a:r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7" name="Espace réservé de la date 4"/>
          <p:cNvSpPr/>
          <p:nvPr/>
        </p:nvSpPr>
        <p:spPr>
          <a:xfrm>
            <a:off x="3882960" y="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t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F9127F3-4D74-4734-8E16-5D15F552FE2D}" type="datetime3">
              <a:rPr b="0" lang="en-GB" sz="1200" spc="-1" strike="noStrike">
                <a:solidFill>
                  <a:srgbClr val="000000"/>
                </a:solidFill>
                <a:latin typeface="Arial"/>
              </a:rPr>
              <a:t>28 July 2026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8" name="Espace réservé du numéro de diapositive 5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B83639B2-9EFB-41A5-9F6C-AF31272BAF50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1B5E3F7-352D-4775-A5C1-328C8A27EE46}" type="slidenum">
              <a:rPr b="0" lang="en-GB" sz="1200" spc="-1" strike="noStrike">
                <a:solidFill>
                  <a:srgbClr val="000000"/>
                </a:solidFill>
                <a:latin typeface="Arial"/>
                <a:ea typeface="PMingLiU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9BA32A63-4CE4-408F-A1F7-E62AA0E18973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4C351F9A-6DB2-4997-B878-CAE0DFBE94D9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851040" y="730080"/>
            <a:ext cx="5155920" cy="3645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7240" y="4619160"/>
            <a:ext cx="5483520" cy="437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Espace réservé du numéro de diapositive 3"/>
          <p:cNvSpPr/>
          <p:nvPr/>
        </p:nvSpPr>
        <p:spPr>
          <a:xfrm>
            <a:off x="3882960" y="9234360"/>
            <a:ext cx="2973600" cy="4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 rtl="1">
              <a:tabLst>
                <a:tab algn="l" pos="0"/>
                <a:tab algn="l" pos="923760"/>
                <a:tab algn="l" pos="1847880"/>
                <a:tab algn="l" pos="2771640"/>
                <a:tab algn="l" pos="3695760"/>
                <a:tab algn="l" pos="4619520"/>
                <a:tab algn="l" pos="5543640"/>
                <a:tab algn="l" pos="6467400"/>
                <a:tab algn="l" pos="7391520"/>
                <a:tab algn="l" pos="8315280"/>
                <a:tab algn="l" pos="9239400"/>
                <a:tab algn="l" pos="10163160"/>
              </a:tabLst>
            </a:pPr>
            <a:fld id="{6B25DC04-D8D2-444A-87F4-3D9AA7B831F5}" type="slidenum">
              <a:rPr b="0" lang="fr-F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2C69B-45A0-4B88-A7DE-FF2979C8FB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801"/>
              </a:spcBef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36E17-8EF4-442F-83B2-687DFB5D8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8503-5B14-4667-9ED1-2FF35721D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DD5D0-A9AC-49D5-980B-81F2999DE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F7ECC-4AB1-40B4-8307-CFB548A93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45E6-1173-4262-8E9B-F6479A183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191F-FC2A-4C2A-8067-B1D156A64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9DA7-3C29-40F7-AB1C-A7136E348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02E98-2E07-4ADF-94CF-A3945B944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D0A47-E795-4328-A51C-797431E78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8168-0605-433B-8CDD-DB0181BDB9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79620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7074360" y="170028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1768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79620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7074360" y="4182120"/>
            <a:ext cx="312192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D44F4-2B01-4F82-844D-13BD928A6D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0" y="0"/>
            <a:ext cx="10693440" cy="632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801"/>
              </a:spcBef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486040" y="418212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486040" y="1700280"/>
            <a:ext cx="473148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7680" y="4182120"/>
            <a:ext cx="9696240" cy="226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801"/>
              </a:spcBef>
              <a:buNone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" name="Rectangle 12"/>
          <p:cNvSpPr/>
          <p:nvPr/>
        </p:nvSpPr>
        <p:spPr>
          <a:xfrm>
            <a:off x="1440" y="6632640"/>
            <a:ext cx="10693440" cy="9288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Rectangle 14"/>
          <p:cNvSpPr/>
          <p:nvPr/>
        </p:nvSpPr>
        <p:spPr>
          <a:xfrm>
            <a:off x="420840" y="7054920"/>
            <a:ext cx="4158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fld id="{36023E43-B398-4F96-972E-CCDB548FB7B5}" type="slidenum">
              <a:rPr b="1" lang="en-US" sz="17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7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GB" sz="24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" name="Picture 17" descr="WHO-EN-white-H"/>
          <p:cNvPicPr/>
          <p:nvPr/>
        </p:nvPicPr>
        <p:blipFill>
          <a:blip r:embed="rId2"/>
          <a:stretch/>
        </p:blipFill>
        <p:spPr>
          <a:xfrm>
            <a:off x="7521480" y="6659640"/>
            <a:ext cx="2581200" cy="7905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0"/>
          <p:cNvSpPr/>
          <p:nvPr/>
        </p:nvSpPr>
        <p:spPr>
          <a:xfrm rot="5400000">
            <a:off x="10372680" y="7257960"/>
            <a:ext cx="247680" cy="123840"/>
          </a:xfrm>
          <a:prstGeom prst="rect">
            <a:avLst/>
          </a:prstGeom>
          <a:solidFill>
            <a:srgbClr val="e2c68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4" name="Rectangle 16"/>
          <p:cNvSpPr/>
          <p:nvPr/>
        </p:nvSpPr>
        <p:spPr>
          <a:xfrm>
            <a:off x="1440" y="6537240"/>
            <a:ext cx="10692000" cy="102420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5" name="Rectangle 17"/>
          <p:cNvSpPr/>
          <p:nvPr/>
        </p:nvSpPr>
        <p:spPr>
          <a:xfrm>
            <a:off x="1268280" y="7066080"/>
            <a:ext cx="31356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1" lang="en-GB" sz="1600" spc="-1" strike="noStrike">
                <a:solidFill>
                  <a:srgbClr val="96ccee"/>
                </a:solidFill>
                <a:latin typeface="Arial Narrow"/>
              </a:rPr>
              <a:t>Regional Office for Africa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6" name="Rectangle 18"/>
          <p:cNvSpPr/>
          <p:nvPr/>
        </p:nvSpPr>
        <p:spPr>
          <a:xfrm>
            <a:off x="492120" y="7032600"/>
            <a:ext cx="485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fld id="{2D1B068C-3832-41C9-A4D5-3BD2F10538D9}" type="slidenum">
              <a:rPr b="1" lang="en-US" sz="1900" spc="-1" strike="noStrike">
                <a:solidFill>
                  <a:srgbClr val="72bbe8"/>
                </a:solidFill>
                <a:latin typeface="Arial Narrow"/>
              </a:rPr>
              <a:t>&lt;number&gt;</a:t>
            </a:fld>
            <a:r>
              <a:rPr b="1" lang="en-GB" sz="1900" spc="-1" strike="noStrike">
                <a:solidFill>
                  <a:srgbClr val="72bbe8"/>
                </a:solidFill>
                <a:latin typeface="Arial Narrow"/>
              </a:rPr>
              <a:t> </a:t>
            </a:r>
            <a:r>
              <a:rPr b="1" lang="en-US" sz="2700" spc="-1" strike="noStrike" baseline="14000">
                <a:solidFill>
                  <a:srgbClr val="ffffff"/>
                </a:solidFill>
                <a:latin typeface="Arial Narrow"/>
              </a:rPr>
              <a:t>|</a:t>
            </a:r>
            <a:endParaRPr b="1" lang="en-US" sz="27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7" name="Picture 19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6946920" y="6605640"/>
            <a:ext cx="3295800" cy="9558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e7fb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2000"/>
          </a:bodyPr>
          <a:p>
            <a:pPr marL="359280" indent="-359280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Click to edit the outline text forma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845280" indent="-296280">
              <a:spcBef>
                <a:spcPts val="2801"/>
              </a:spcBef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con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2" marL="1318680" indent="-283320">
              <a:spcBef>
                <a:spcPts val="2801"/>
              </a:spcBef>
              <a:buClr>
                <a:srgbClr val="1e7fb8"/>
              </a:buClr>
              <a:buFont typeface="Arial Narrow"/>
              <a:buChar char="•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Third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3" marL="1746720" indent="-237960">
              <a:spcBef>
                <a:spcPts val="2801"/>
              </a:spcBef>
              <a:buClr>
                <a:srgbClr val="1e7fb8"/>
              </a:buClr>
              <a:buFont typeface="Arial Narrow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our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4" marL="2086560" indent="-151560">
              <a:spcBef>
                <a:spcPts val="2801"/>
              </a:spcBef>
              <a:buClr>
                <a:srgbClr val="000066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Fif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5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ix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6" marL="2086560" indent="-151560">
              <a:spcBef>
                <a:spcPts val="2801"/>
              </a:spcBef>
              <a:buClr>
                <a:srgbClr val="000000"/>
              </a:buClr>
              <a:buFont typeface="Arial"/>
              <a:buChar char="»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800" spc="-1" strike="noStrike">
                <a:solidFill>
                  <a:srgbClr val="000066"/>
                </a:solidFill>
                <a:latin typeface="Arial Narrow"/>
              </a:rPr>
              <a:t>Seventh Outline Level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5"/>
          <p:cNvSpPr/>
          <p:nvPr/>
        </p:nvSpPr>
        <p:spPr>
          <a:xfrm>
            <a:off x="0" y="0"/>
            <a:ext cx="10693440" cy="7561440"/>
          </a:xfrm>
          <a:prstGeom prst="rect">
            <a:avLst/>
          </a:prstGeom>
          <a:solidFill>
            <a:srgbClr val="1e7fb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4400" rIns="104400" tIns="52200" bIns="522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123" name="Picture 16" descr="WHO-EN-BW-H"/>
          <p:cNvPicPr/>
          <p:nvPr/>
        </p:nvPicPr>
        <p:blipFill>
          <a:blip r:embed="rId2">
            <a:biLevel thresh="50000"/>
            <a:lum contrast="12000"/>
          </a:blip>
          <a:stretch/>
        </p:blipFill>
        <p:spPr>
          <a:xfrm>
            <a:off x="714240" y="525600"/>
            <a:ext cx="4799160" cy="1390680"/>
          </a:xfrm>
          <a:prstGeom prst="rect">
            <a:avLst/>
          </a:prstGeom>
          <a:ln w="0">
            <a:noFill/>
          </a:ln>
        </p:spPr>
      </p:pic>
      <p:sp>
        <p:nvSpPr>
          <p:cNvPr id="124" name="Line 17"/>
          <p:cNvSpPr/>
          <p:nvPr/>
        </p:nvSpPr>
        <p:spPr>
          <a:xfrm>
            <a:off x="0" y="2940120"/>
            <a:ext cx="10693440" cy="0"/>
          </a:xfrm>
          <a:prstGeom prst="line">
            <a:avLst/>
          </a:prstGeom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-51840" bIns="-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Line 18"/>
          <p:cNvSpPr/>
          <p:nvPr/>
        </p:nvSpPr>
        <p:spPr>
          <a:xfrm>
            <a:off x="1557360" y="2112840"/>
            <a:ext cx="0" cy="544860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4040" rIns="104040" tIns="51840" bIns="51840" anchor="ctr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91760" y="378000"/>
            <a:ext cx="9682200" cy="71424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447db5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447db5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92120" y="1942920"/>
            <a:ext cx="9623520" cy="466236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rmAutofit/>
          </a:bodyPr>
          <a:p>
            <a:pPr marL="390600" indent="-390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46000" indent="-3254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303200" indent="-2602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824120" indent="-2602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346480" indent="-26064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346480" indent="-26064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"/>
          </p:nvPr>
        </p:nvSpPr>
        <p:spPr>
          <a:xfrm>
            <a:off x="534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2"/>
          </p:nvPr>
        </p:nvSpPr>
        <p:spPr>
          <a:xfrm>
            <a:off x="3652920" y="6885000"/>
            <a:ext cx="338760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3"/>
          </p:nvPr>
        </p:nvSpPr>
        <p:spPr>
          <a:xfrm>
            <a:off x="7662960" y="6885000"/>
            <a:ext cx="2495520" cy="5256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33339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49352-AA6E-49BA-8E21-62CA9531FF15}" type="slidenum">
              <a:rPr b="0" lang="en-US" sz="1600" spc="-1" strike="noStrike">
                <a:solidFill>
                  <a:srgbClr val="3333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095120" y="2414520"/>
            <a:ext cx="9088200" cy="3510000"/>
          </a:xfrm>
          <a:prstGeom prst="rect">
            <a:avLst/>
          </a:prstGeom>
          <a:noFill/>
          <a:ln w="0">
            <a:noFill/>
          </a:ln>
        </p:spPr>
        <p:txBody>
          <a:bodyPr lIns="104400" rIns="104400" tIns="52200" bIns="522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Dialogue national sur le Financement de la Santé  pour la Couverture Sanitaire Universelle au Togo : Lomé, 09 Février 2017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800"/>
            </a:br>
            <a:br>
              <a:rPr sz="1800"/>
            </a:br>
            <a:r>
              <a:rPr b="1" lang="en-US" sz="4100" spc="-1" strike="noStrike">
                <a:solidFill>
                  <a:srgbClr val="fbebaf"/>
                </a:solidFill>
                <a:latin typeface="Arial"/>
              </a:rPr>
              <a:t>COUVERTURE SANITAIRE UNIVERSELLE</a:t>
            </a:r>
            <a:br>
              <a:rPr sz="2300"/>
            </a:br>
            <a:r>
              <a:rPr b="1" i="1" lang="en-US" sz="1400" spc="-1" strike="noStrike">
                <a:solidFill>
                  <a:srgbClr val="33cc33"/>
                </a:solidFill>
                <a:latin typeface="Arial"/>
              </a:rPr>
              <a:t> </a:t>
            </a:r>
            <a:br>
              <a:rPr sz="1800"/>
            </a:br>
            <a:br>
              <a:rPr sz="1800"/>
            </a:br>
            <a:endParaRPr b="1" lang="en-US" sz="1400" spc="-1" strike="noStrike">
              <a:solidFill>
                <a:srgbClr val="447db5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-Défis et Opportunit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285840" y="1464840"/>
            <a:ext cx="10260000" cy="507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0000cc"/>
                </a:solidFill>
                <a:latin typeface="Arial Narrow"/>
              </a:rPr>
              <a:t>Opportunités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ynamique mondiale en faveur de la promotion de la CSU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artenariat international pour le développement de la CSU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800"/>
              </a:spcBef>
              <a:spcAft>
                <a:spcPts val="18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D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</a:t>
            </a:r>
            <a:r>
              <a:rPr b="0" lang="en-US" sz="2400" spc="-1" strike="noStrike">
                <a:solidFill>
                  <a:srgbClr val="000000"/>
                </a:solidFill>
                <a:latin typeface="Arial Narrow"/>
              </a:rPr>
              <a:t>mande croissante de la population pour l’accès aux services de santé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VI. Messages clés (1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293760" y="1481040"/>
            <a:ext cx="10175760" cy="535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7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7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7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Engagement national au plus haut niveau et des acteur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Stratégie nationale de financement de la santé et le renforcement de l’offre de soins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Le financement de la santé par les financements domestiques reste capital  </a:t>
            </a:r>
            <a:r>
              <a:rPr b="1" lang="fr-FR" sz="2400" spc="-1" strike="noStrike">
                <a:solidFill>
                  <a:srgbClr val="ff0000"/>
                </a:solidFill>
                <a:latin typeface="Arial Narrow"/>
              </a:rPr>
              <a:t>…</a:t>
            </a: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érennisation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Bonne voie pour améliorer la performance des systèmes de santé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Processus continu dans le temps 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Messages clés (2/2)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293760" y="1480680"/>
            <a:ext cx="10175760" cy="496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La CSU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Tous les pays, à toutes les étapes de leur développement, peuvent prendre des mesures immédiates pour progresser plus rapidement vers la couverture universelle et pour maintenir leur objectif (RSM 2010).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2801"/>
              </a:spcBef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 </a:t>
            </a:r>
            <a:r>
              <a:rPr b="0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i="1" lang="fr-FR" sz="2800" spc="-1" strike="noStrike">
                <a:solidFill>
                  <a:srgbClr val="ff0000"/>
                </a:solidFill>
                <a:latin typeface="Arial Narrow"/>
              </a:rPr>
              <a:t>Se battre pour la couverture universelle est un objectif admirable et réalisable dans tous les pays du monde </a:t>
            </a:r>
            <a:r>
              <a:rPr b="1" i="1" lang="fr-FR" sz="2800" spc="-1" strike="noStrike">
                <a:solidFill>
                  <a:srgbClr val="000066"/>
                </a:solidFill>
                <a:latin typeface="Arial Narrow"/>
              </a:rPr>
              <a:t>»</a:t>
            </a:r>
            <a:r>
              <a:rPr b="0" i="1" lang="fr-FR" sz="2800" spc="-1" strike="noStrike">
                <a:solidFill>
                  <a:srgbClr val="000066"/>
                </a:solidFill>
                <a:latin typeface="Arial Narrow"/>
              </a:rPr>
              <a:t> Dr Margaret Chan, DG OM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>
              <a:spcBef>
                <a:spcPts val="689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10"/>
          <p:cNvSpPr/>
          <p:nvPr/>
        </p:nvSpPr>
        <p:spPr>
          <a:xfrm>
            <a:off x="2041560" y="1101600"/>
            <a:ext cx="6518160" cy="1408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1" lang="en-GB" sz="6600" spc="-1" strike="noStrike">
                <a:solidFill>
                  <a:srgbClr val="003399"/>
                </a:solidFill>
                <a:latin typeface="Calibri"/>
              </a:rPr>
              <a:t>Merci</a:t>
            </a:r>
            <a:endParaRPr b="1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210" name="Picture 2" descr=""/>
          <p:cNvPicPr/>
          <p:nvPr/>
        </p:nvPicPr>
        <p:blipFill>
          <a:blip r:embed="rId1"/>
          <a:stretch/>
        </p:blipFill>
        <p:spPr>
          <a:xfrm>
            <a:off x="1809720" y="2112840"/>
            <a:ext cx="6980400" cy="428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262080"/>
            <a:ext cx="10693440" cy="1103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800" spc="-1" strike="noStrike">
                <a:solidFill>
                  <a:srgbClr val="1c78b0"/>
                </a:solidFill>
                <a:latin typeface="Arial"/>
              </a:rPr>
              <a:t>Plan de présentation </a:t>
            </a:r>
            <a:endParaRPr b="1" lang="en-US" sz="48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17680" y="170028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3000"/>
          </a:bodyPr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ntexte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nition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Situation de la mise en œuvre de la CSU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Facteurs clés de succè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Défis et opportunit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-474480">
              <a:lnSpc>
                <a:spcPct val="114000"/>
              </a:lnSpc>
              <a:spcBef>
                <a:spcPts val="601"/>
              </a:spcBef>
              <a:spcAft>
                <a:spcPts val="601"/>
              </a:spcAft>
              <a:buClr>
                <a:srgbClr val="1e7fb8"/>
              </a:buClr>
              <a:buFont typeface="Arial Narrow"/>
              <a:buAutoNum type="romanUcPeriod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Messages clé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  <a:p>
            <a:pPr marL="474480" indent="0" algn="just">
              <a:lnSpc>
                <a:spcPct val="114000"/>
              </a:lnSpc>
              <a:spcBef>
                <a:spcPts val="1800"/>
              </a:spcBef>
              <a:spcAft>
                <a:spcPts val="1800"/>
              </a:spcAft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3600" spc="-1" strike="noStrike">
                <a:solidFill>
                  <a:srgbClr val="000066"/>
                </a:solidFill>
                <a:latin typeface="Cambria"/>
              </a:rPr>
              <a:t>  </a:t>
            </a:r>
            <a:endParaRPr b="0" lang="en-US" sz="3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I.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Contexte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361800" y="1341360"/>
            <a:ext cx="1018872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Fortes inégalités, barrières à l’accès aux services de santé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Faible performance des systèmes de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riorité moindre accordée à la santé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Pauvreté des populations et autres exclusions 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Santé</a:t>
            </a:r>
            <a:r>
              <a:rPr b="1" lang="fr-FR" sz="2600" spc="-1" strike="noStrike">
                <a:solidFill>
                  <a:srgbClr val="000066"/>
                </a:solidFill>
                <a:latin typeface="Arial Narrow"/>
              </a:rPr>
              <a:t>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200" spc="-1" strike="noStrike">
                <a:solidFill>
                  <a:srgbClr val="000066"/>
                </a:solidFill>
                <a:latin typeface="Arial Narrow"/>
              </a:rPr>
              <a:t>droit fondamental de tout être humain (Art 25.1 DDH), condition pour le développement économique et social</a:t>
            </a: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2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600" spc="-1" strike="noStrike">
                <a:solidFill>
                  <a:srgbClr val="2778d9"/>
                </a:solidFill>
                <a:latin typeface="Arial Narrow"/>
              </a:rPr>
              <a:t>Volonté politique traduite par divers engagements des Etats </a:t>
            </a: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endParaRPr b="0" lang="en-US" sz="26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Oval 2"/>
          <p:cNvSpPr/>
          <p:nvPr/>
        </p:nvSpPr>
        <p:spPr>
          <a:xfrm>
            <a:off x="276120" y="4851360"/>
            <a:ext cx="10106280" cy="1411200"/>
          </a:xfrm>
          <a:prstGeom prst="ellipse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10693440" cy="7556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 rtl="1">
              <a:buNone/>
              <a:tabLst>
                <a:tab algn="l" pos="0"/>
                <a:tab algn="l" pos="1039680"/>
                <a:tab algn="l" pos="2079720"/>
                <a:tab algn="l" pos="3119400"/>
                <a:tab algn="l" pos="4159080"/>
                <a:tab algn="l" pos="5199120"/>
                <a:tab algn="l" pos="6238800"/>
                <a:tab algn="l" pos="7278840"/>
                <a:tab algn="l" pos="8318520"/>
                <a:tab algn="l" pos="9358200"/>
                <a:tab algn="l" pos="10398240"/>
              </a:tabLst>
            </a:pPr>
            <a:r>
              <a:rPr b="1" lang="fr-FR" sz="3800" spc="-1" strike="noStrike">
                <a:solidFill>
                  <a:srgbClr val="7030a0"/>
                </a:solidFill>
                <a:latin typeface="Arial"/>
              </a:rPr>
              <a:t>II. </a:t>
            </a:r>
            <a:r>
              <a:rPr b="1" lang="fr-FR" sz="4400" spc="-1" strike="noStrike">
                <a:solidFill>
                  <a:srgbClr val="1c78b0"/>
                </a:solidFill>
                <a:latin typeface="Arial"/>
              </a:rPr>
              <a:t>Définition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2563560"/>
            <a:ext cx="10693440" cy="249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655560" indent="0">
              <a:lnSpc>
                <a:spcPct val="100000"/>
              </a:lnSpc>
              <a:spcBef>
                <a:spcPts val="2801"/>
              </a:spcBef>
              <a:buNone/>
              <a:tabLst>
                <a:tab algn="l" pos="0"/>
                <a:tab algn="l" pos="909720"/>
                <a:tab algn="l" pos="1819440"/>
                <a:tab algn="l" pos="2728800"/>
                <a:tab algn="l" pos="3638520"/>
                <a:tab algn="l" pos="4548240"/>
                <a:tab algn="l" pos="5457960"/>
                <a:tab algn="l" pos="6367320"/>
                <a:tab algn="l" pos="7277040"/>
                <a:tab algn="l" pos="8186760"/>
                <a:tab algn="l" pos="9096480"/>
                <a:tab algn="l" pos="10005840"/>
                <a:tab algn="l" pos="1091556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182" name="Rectangle 5"/>
          <p:cNvSpPr/>
          <p:nvPr/>
        </p:nvSpPr>
        <p:spPr>
          <a:xfrm>
            <a:off x="2163600" y="2571840"/>
            <a:ext cx="6266160" cy="50796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2778d9"/>
                </a:solidFill>
                <a:latin typeface="Arial"/>
              </a:rPr>
              <a:t>Couverture sanitaire universelle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3" name="Oval 6"/>
          <p:cNvSpPr/>
          <p:nvPr/>
        </p:nvSpPr>
        <p:spPr>
          <a:xfrm>
            <a:off x="493560" y="4991040"/>
            <a:ext cx="410688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Disponibilité effective en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services de santé de qualité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4" name="Oval 7"/>
          <p:cNvSpPr/>
          <p:nvPr/>
        </p:nvSpPr>
        <p:spPr>
          <a:xfrm>
            <a:off x="5829480" y="4991040"/>
            <a:ext cx="4381200" cy="1130400"/>
          </a:xfrm>
          <a:prstGeom prst="ellipse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Protection contre</a:t>
            </a: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200" spc="-1" strike="noStrike">
                <a:solidFill>
                  <a:srgbClr val="000066"/>
                </a:solidFill>
                <a:latin typeface="Arial"/>
              </a:rPr>
              <a:t>les risques financiers</a:t>
            </a:r>
            <a:endParaRPr b="1" lang="en-US" sz="2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5" name="Line 8"/>
          <p:cNvSpPr/>
          <p:nvPr/>
        </p:nvSpPr>
        <p:spPr>
          <a:xfrm flipV="1">
            <a:off x="5297400" y="3957480"/>
            <a:ext cx="0" cy="6652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6" name="Rectangle 9"/>
          <p:cNvSpPr/>
          <p:nvPr/>
        </p:nvSpPr>
        <p:spPr>
          <a:xfrm>
            <a:off x="3214800" y="4448160"/>
            <a:ext cx="45576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Utilisation effective des services de santé</a:t>
            </a: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963880" y="3559320"/>
            <a:ext cx="455940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i="1" lang="fr-FR" sz="2900" spc="-1" strike="noStrike">
                <a:solidFill>
                  <a:srgbClr val="000066"/>
                </a:solidFill>
                <a:latin typeface="Arial"/>
              </a:rPr>
              <a:t>Protection sociale en santé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8" name="Line 8"/>
          <p:cNvSpPr/>
          <p:nvPr/>
        </p:nvSpPr>
        <p:spPr>
          <a:xfrm flipH="1" flipV="1">
            <a:off x="5270400" y="2992320"/>
            <a:ext cx="14400" cy="60984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89" name="Rectangle 5"/>
          <p:cNvSpPr/>
          <p:nvPr/>
        </p:nvSpPr>
        <p:spPr>
          <a:xfrm>
            <a:off x="1601640" y="1349280"/>
            <a:ext cx="7366320" cy="568440"/>
          </a:xfrm>
          <a:prstGeom prst="rect">
            <a:avLst/>
          </a:prstGeom>
          <a:solidFill>
            <a:srgbClr val="fae8de"/>
          </a:solidFill>
          <a:ln w="57240">
            <a:solidFill>
              <a:srgbClr val="2778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2900" spc="-1" strike="noStrike">
                <a:solidFill>
                  <a:srgbClr val="ff0000"/>
                </a:solidFill>
                <a:latin typeface="Arial"/>
              </a:rPr>
              <a:t>Etat de Santé de la population amélioré</a:t>
            </a:r>
            <a:r>
              <a:rPr b="1" lang="fr-FR" sz="2900" spc="-1" strike="noStrike">
                <a:solidFill>
                  <a:srgbClr val="000066"/>
                </a:solidFill>
                <a:latin typeface="Arial"/>
              </a:rPr>
              <a:t> </a:t>
            </a:r>
            <a:endParaRPr b="1" lang="en-US" sz="2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0" name="Line 8"/>
          <p:cNvSpPr/>
          <p:nvPr/>
        </p:nvSpPr>
        <p:spPr>
          <a:xfrm flipH="1" flipV="1">
            <a:off x="5236920" y="1979280"/>
            <a:ext cx="12600" cy="609480"/>
          </a:xfrm>
          <a:prstGeom prst="line">
            <a:avLst/>
          </a:prstGeom>
          <a:ln w="10152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1080" rIns="91080" tIns="45360" bIns="45360" anchor="t">
            <a:noAutofit/>
          </a:bodyPr>
          <a:p>
            <a:endParaRPr b="1" lang="en-US" sz="39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1" name="Oval 6"/>
          <p:cNvSpPr/>
          <p:nvPr/>
        </p:nvSpPr>
        <p:spPr>
          <a:xfrm>
            <a:off x="3406680" y="5910120"/>
            <a:ext cx="4106880" cy="113040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1038240"/>
                <a:tab algn="l" pos="2076480"/>
                <a:tab algn="l" pos="3114720"/>
                <a:tab algn="l" pos="4152960"/>
                <a:tab algn="l" pos="5191200"/>
                <a:tab algn="l" pos="6229440"/>
                <a:tab algn="l" pos="7267680"/>
                <a:tab algn="l" pos="8305920"/>
                <a:tab algn="l" pos="9344160"/>
                <a:tab algn="l" pos="1038240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Arial"/>
              </a:rPr>
              <a:t>SOCLE DE PROTECTION SOCIALE</a:t>
            </a:r>
            <a:endParaRPr b="1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34960" y="303120"/>
            <a:ext cx="9623520" cy="936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400" spc="-1" strike="noStrike">
                <a:solidFill>
                  <a:srgbClr val="1c78b0"/>
                </a:solidFill>
                <a:latin typeface="Arial"/>
              </a:rPr>
              <a:t>Définition (2) </a:t>
            </a:r>
            <a:endParaRPr b="1" lang="en-US" sz="44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378000" y="1477800"/>
            <a:ext cx="9937440" cy="473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Couverture Sanitaire Universell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66"/>
                </a:solidFill>
                <a:latin typeface="Arial Narrow"/>
              </a:rPr>
              <a:t>Objectif à atteindre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199"/>
              </a:spcBef>
              <a:spcAft>
                <a:spcPts val="1199"/>
              </a:spcAft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2800" spc="-1" strike="noStrike">
                <a:solidFill>
                  <a:srgbClr val="000066"/>
                </a:solidFill>
                <a:latin typeface="Arial Narrow"/>
              </a:rPr>
              <a:t>« 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Veiller à ce que l’ensemble de la population ait accès aux servic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préventifs, curatifs, palliatifs, de réadaptation et de promotion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de la santé dont elle a besoin et à ce que ces services soient de qualité suffisante pour être efficaces, sans que leurs coûts n’entraînant des difficultés financière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(dépenses catastrophiques de santé) </a:t>
            </a:r>
            <a:r>
              <a:rPr b="1" lang="fr-FR" sz="2800" spc="-1" strike="noStrike">
                <a:solidFill>
                  <a:srgbClr val="2778d9"/>
                </a:solidFill>
                <a:latin typeface="Arial Narrow"/>
              </a:rPr>
              <a:t>pour les usagers 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» (</a:t>
            </a:r>
            <a:r>
              <a:rPr b="0" lang="fr-FR" sz="2800" spc="-1" strike="noStrike">
                <a:solidFill>
                  <a:srgbClr val="0070c0"/>
                </a:solidFill>
                <a:latin typeface="Arial Narrow"/>
              </a:rPr>
              <a:t>Rapport sur la santé dans le monde, 2010</a:t>
            </a:r>
            <a:r>
              <a:rPr b="0" lang="fr-FR" sz="2800" spc="-1" strike="noStrike">
                <a:solidFill>
                  <a:srgbClr val="000000"/>
                </a:solidFill>
                <a:latin typeface="Arial Narrow"/>
              </a:rPr>
              <a:t>)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IV.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	</a:t>
            </a:r>
            <a:r>
              <a:rPr b="1" lang="en-GB" sz="4000" spc="-1" strike="noStrike">
                <a:solidFill>
                  <a:srgbClr val="1c78b0"/>
                </a:solidFill>
                <a:latin typeface="Arial"/>
              </a:rPr>
              <a:t>Dimensions de la CSU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pic>
        <p:nvPicPr>
          <p:cNvPr id="195" name="Picture 2" descr=""/>
          <p:cNvPicPr/>
          <p:nvPr/>
        </p:nvPicPr>
        <p:blipFill>
          <a:blip r:embed="rId1"/>
          <a:stretch/>
        </p:blipFill>
        <p:spPr>
          <a:xfrm>
            <a:off x="463680" y="1558800"/>
            <a:ext cx="8245440" cy="4972320"/>
          </a:xfrm>
          <a:prstGeom prst="rect">
            <a:avLst/>
          </a:prstGeom>
          <a:ln w="25560">
            <a:solidFill>
              <a:srgbClr val="000000"/>
            </a:solidFill>
            <a:miter/>
          </a:ln>
        </p:spPr>
      </p:pic>
      <p:sp>
        <p:nvSpPr>
          <p:cNvPr id="196" name="Rectangle 7"/>
          <p:cNvSpPr/>
          <p:nvPr/>
        </p:nvSpPr>
        <p:spPr>
          <a:xfrm>
            <a:off x="8709120" y="6099120"/>
            <a:ext cx="198432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4400" rIns="104400" tIns="52200" bIns="52200" anchor="t">
            <a:normAutofit/>
          </a:bodyPr>
          <a:p>
            <a:pPr rtl="1">
              <a:lnSpc>
                <a:spcPct val="100000"/>
              </a:lnSpc>
              <a:tabLst>
                <a:tab algn="l" pos="0"/>
                <a:tab algn="l" pos="1189080"/>
                <a:tab algn="l" pos="2378160"/>
                <a:tab algn="l" pos="3567240"/>
                <a:tab algn="l" pos="4756320"/>
                <a:tab algn="l" pos="5945040"/>
                <a:tab algn="l" pos="7134120"/>
                <a:tab algn="l" pos="8323200"/>
                <a:tab algn="l" pos="9512280"/>
                <a:tab algn="l" pos="10701360"/>
              </a:tabLst>
            </a:pPr>
            <a:r>
              <a:rPr b="0" i="1" lang="fr-FR" sz="1600" spc="-1" strike="noStrike">
                <a:solidFill>
                  <a:srgbClr val="000066"/>
                </a:solidFill>
                <a:latin typeface="Arial"/>
              </a:rPr>
              <a:t>Source : RSM 2010</a:t>
            </a:r>
            <a:endParaRPr b="1" lang="en-US" sz="16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IV.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	</a:t>
            </a:r>
            <a:r>
              <a:rPr b="1" lang="en-US" sz="4000" spc="-1" strike="noStrike">
                <a:solidFill>
                  <a:srgbClr val="1c78b0"/>
                </a:solidFill>
                <a:latin typeface="Arial Narrow"/>
              </a:rPr>
              <a:t>Situation </a:t>
            </a: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de la mise en œuvre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41360" y="1884240"/>
            <a:ext cx="9918720" cy="31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relativement avancés dans la voie vers la CSU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  </a:t>
            </a:r>
            <a:r>
              <a:rPr b="0" lang="fr-FR" sz="2800" spc="-1" strike="noStrike">
                <a:solidFill>
                  <a:srgbClr val="96ccee"/>
                </a:solidFill>
                <a:latin typeface="Arial Narrow"/>
              </a:rPr>
              <a:t>Botswana, Gabon. Ghana, Rwanda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1199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1480"/>
                <a:tab algn="l" pos="2082960"/>
                <a:tab algn="l" pos="3124080"/>
                <a:tab algn="l" pos="4165560"/>
                <a:tab algn="l" pos="5207040"/>
                <a:tab algn="l" pos="6248520"/>
                <a:tab algn="l" pos="7289640"/>
                <a:tab algn="l" pos="8331120"/>
                <a:tab algn="l" pos="9372600"/>
                <a:tab algn="l" pos="10414080"/>
              </a:tabLst>
            </a:pP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Pays de la Région africaine ayant pris des </a:t>
            </a:r>
            <a:r>
              <a:rPr b="1" lang="fr-FR" sz="2800" spc="-1" strike="noStrike">
                <a:solidFill>
                  <a:srgbClr val="0000cc"/>
                </a:solidFill>
                <a:latin typeface="Arial Narrow"/>
              </a:rPr>
              <a:t>engagements politiques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de haut niveau en faveur de la CSU: 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Afrique du Sud, Benin, Burundi, Congo, Côte d’Ivoire, Kenya, Malawi, Mali, Maurice, Namibie, Nigeria, RDC, Sénégal, Seychelles, Sierra Leone, Tanzanie, </a:t>
            </a:r>
            <a:r>
              <a:rPr b="1" lang="fr-FR" sz="2400" spc="-1" strike="noStrike">
                <a:solidFill>
                  <a:srgbClr val="96ccee"/>
                </a:solidFill>
                <a:latin typeface="Arial Narrow"/>
              </a:rPr>
              <a:t>Togo</a:t>
            </a:r>
            <a:r>
              <a:rPr b="0" lang="fr-FR" sz="2400" spc="-1" strike="noStrike">
                <a:solidFill>
                  <a:srgbClr val="96ccee"/>
                </a:solidFill>
                <a:latin typeface="Arial Narrow"/>
              </a:rPr>
              <a:t> et Uganda, etc.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 txBox="1"/>
          <p:nvPr/>
        </p:nvSpPr>
        <p:spPr>
          <a:xfrm>
            <a:off x="299520" y="1358640"/>
            <a:ext cx="9812520" cy="538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Volonté politique  :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Multisectorialité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ncrage institutionnel </a:t>
            </a:r>
            <a:r>
              <a:rPr b="0" lang="fr-FR" sz="2800" spc="-1" strike="noStrike">
                <a:solidFill>
                  <a:srgbClr val="0d0d0d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Renforcement de l’offre de soins 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Adoption préférentielle d’un modèle de financement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  <a:p>
            <a:pPr marL="390600" indent="-390600" algn="just">
              <a:spcBef>
                <a:spcPts val="1199"/>
              </a:spcBef>
              <a:spcAft>
                <a:spcPts val="601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800" spc="-1" strike="noStrike">
                <a:solidFill>
                  <a:srgbClr val="0000cc"/>
                </a:solidFill>
                <a:latin typeface="Arial Narrow"/>
              </a:rPr>
              <a:t>Gestion efficiente</a:t>
            </a:r>
            <a:endParaRPr b="0" lang="en-US" sz="2800" spc="-1" strike="noStrike">
              <a:solidFill>
                <a:srgbClr val="000066"/>
              </a:solidFill>
              <a:latin typeface="Arial Narrow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568160" cy="798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. Facteurs de succès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10693440" cy="1365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6ccee"/>
            </a:outerShdw>
          </a:effectLst>
        </p:spPr>
        <p:txBody>
          <a:bodyPr lIns="0" rIns="0" t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4000" spc="-1" strike="noStrike">
                <a:solidFill>
                  <a:srgbClr val="1c78b0"/>
                </a:solidFill>
                <a:latin typeface="Arial Narrow"/>
              </a:rPr>
              <a:t>VI. Défis et opportunités (1/2) </a:t>
            </a:r>
            <a:endParaRPr b="1" lang="en-US" sz="4000" spc="-1" strike="noStrike">
              <a:solidFill>
                <a:srgbClr val="1c78b0"/>
              </a:solidFill>
              <a:latin typeface="Arial"/>
            </a:endParaRPr>
          </a:p>
        </p:txBody>
      </p:sp>
      <p:sp>
        <p:nvSpPr>
          <p:cNvPr id="202" name=""/>
          <p:cNvSpPr txBox="1"/>
          <p:nvPr/>
        </p:nvSpPr>
        <p:spPr>
          <a:xfrm>
            <a:off x="517680" y="1433520"/>
            <a:ext cx="9696240" cy="47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90600" indent="-390600" algn="just">
              <a:spcBef>
                <a:spcPts val="1375"/>
              </a:spcBef>
              <a:spcAft>
                <a:spcPts val="1375"/>
              </a:spcAft>
              <a:buClr>
                <a:srgbClr val="1e7fb8"/>
              </a:buClr>
              <a:buFont typeface="Wingdings" charset="2"/>
              <a:buChar char="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1" lang="fr-FR" sz="3000" spc="-1" strike="noStrike">
                <a:solidFill>
                  <a:srgbClr val="0000cc"/>
                </a:solidFill>
                <a:latin typeface="Arial Narrow"/>
              </a:rPr>
              <a:t>Défis</a:t>
            </a:r>
            <a:r>
              <a:rPr b="1" lang="fr-FR" sz="3000" spc="-1" strike="noStrike">
                <a:solidFill>
                  <a:srgbClr val="0d0d0d"/>
                </a:solidFill>
                <a:latin typeface="Arial Narrow"/>
              </a:rPr>
              <a:t> </a:t>
            </a:r>
            <a:endParaRPr b="0" lang="en-US" sz="30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 Narrow"/>
              </a:rPr>
              <a:t>Définition d’un cheminement au niveau national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inégalités existantes : Mécanisme de protection sociale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Réduction des barrières financières : paiements directs de santé par les ménag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Disponibilité effective des services de santé essentiels de qualité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  <a:p>
            <a:pPr lvl="1" marL="919080" indent="-322200" algn="just">
              <a:spcBef>
                <a:spcPts val="1375"/>
              </a:spcBef>
              <a:spcAft>
                <a:spcPts val="689"/>
              </a:spcAft>
              <a:buClr>
                <a:srgbClr val="1e7fb8"/>
              </a:buClr>
              <a:buFont typeface="Arial"/>
              <a:buChar char="–"/>
              <a:tabLst>
                <a:tab algn="l" pos="1042920"/>
                <a:tab algn="l" pos="2085840"/>
                <a:tab algn="l" pos="3129120"/>
                <a:tab algn="l" pos="4172040"/>
                <a:tab algn="l" pos="5214960"/>
                <a:tab algn="l" pos="6257880"/>
                <a:tab algn="l" pos="7300800"/>
                <a:tab algn="l" pos="8344080"/>
                <a:tab algn="l" pos="9387000"/>
                <a:tab algn="l" pos="10429920"/>
              </a:tabLst>
            </a:pPr>
            <a:r>
              <a:rPr b="0" lang="fr-FR" sz="2400" spc="-1" strike="noStrike">
                <a:solidFill>
                  <a:srgbClr val="0d0d0d"/>
                </a:solidFill>
                <a:latin typeface="Arial Narrow"/>
              </a:rPr>
              <a:t>Gestion rationnelle des ressources disponibles </a:t>
            </a:r>
            <a:endParaRPr b="0" lang="en-US" sz="2400" spc="-1" strike="noStrike">
              <a:solidFill>
                <a:srgbClr val="000066"/>
              </a:solidFill>
              <a:latin typeface="Arial Narrow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2T15:33:18Z</dcterms:created>
  <dc:creator>Karamma</dc:creator>
  <dc:description/>
  <cp:keywords>communication photos text</cp:keywords>
  <dc:language>en-US</dc:language>
  <cp:lastModifiedBy>Pekele, Dr. Minzah - tg</cp:lastModifiedBy>
  <dcterms:modified xsi:type="dcterms:W3CDTF">2017-02-08T20:06:11Z</dcterms:modified>
  <cp:revision>425</cp:revision>
  <dc:subject>WHO template and recommendations</dc:subject>
  <dc:title>Slide 1</dc:title>
</cp:coreProperties>
</file>